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394-BB52-4C02-B876-A6D9DF4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5EC-E523-4561-8D08-871EBCE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182-97DE-4F0C-9ADF-E9BD3B0D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9A6-CF33-4A52-A3EA-354BD50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28B-2654-4069-AED7-393668D6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FAF-647C-4AA0-B4BE-91F1050A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138-34F0-4AE1-B696-04D5EE9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6E1-E0FC-4E52-B616-A8D84D2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75A-E954-44B7-B0D6-0AA413E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29A-50AB-4353-8653-403443E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A56-B931-4002-A51A-DA58467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F5B-E9BB-4DE4-BC1D-B115C27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7F4-4CB6-4614-8D9D-96DD114026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op-bred"/>
          <p:cNvPicPr/>
          <p:nvPr/>
        </p:nvPicPr>
        <p:blipFill>
          <a:blip r:embed="rId1"/>
          <a:stretch/>
        </p:blipFill>
        <p:spPr>
          <a:xfrm>
            <a:off x="-17640" y="-11160"/>
            <a:ext cx="6856560" cy="118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dr-Bund"/>
          <p:cNvPicPr/>
          <p:nvPr/>
        </p:nvPicPr>
        <p:blipFill>
          <a:blip r:embed="rId2"/>
          <a:stretch/>
        </p:blipFill>
        <p:spPr>
          <a:xfrm>
            <a:off x="3240" y="8920080"/>
            <a:ext cx="6854760" cy="22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595440" y="2411280"/>
            <a:ext cx="5653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op-bred"/>
          <p:cNvPicPr/>
          <p:nvPr/>
        </p:nvPicPr>
        <p:blipFill>
          <a:blip r:embed="rId1"/>
          <a:stretch/>
        </p:blipFill>
        <p:spPr>
          <a:xfrm>
            <a:off x="-17640" y="-11160"/>
            <a:ext cx="685656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Adr-Bund"/>
          <p:cNvPicPr/>
          <p:nvPr/>
        </p:nvPicPr>
        <p:blipFill>
          <a:blip r:embed="rId2"/>
          <a:stretch/>
        </p:blipFill>
        <p:spPr>
          <a:xfrm>
            <a:off x="3240" y="8920080"/>
            <a:ext cx="6854760" cy="223920"/>
          </a:xfrm>
          <a:prstGeom prst="rect">
            <a:avLst/>
          </a:prstGeom>
          <a:ln w="0">
            <a:noFill/>
          </a:ln>
        </p:spPr>
      </p:pic>
      <p:sp>
        <p:nvSpPr>
          <p:cNvPr id="46" name="Tekstfelt 1"/>
          <p:cNvSpPr/>
          <p:nvPr/>
        </p:nvSpPr>
        <p:spPr>
          <a:xfrm>
            <a:off x="692280" y="1908000"/>
            <a:ext cx="5473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quential laboratory exercise 2 (hydraulic stand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fun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perator manually operates the “dead man switch” (directional control valve no 1) the pipe valve shall close and then the brake shall be released for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“dead man switch” (direction control valve no 1) is not operated the brake shall apply and the pipe valve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perator manually operates the directional control valve no 2 in position 1 the load shall ho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perator manually operates the directional control valve no 2 in position 2 the load shall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directional control valve no 2 is no operated, the system shall stop in the current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ad shall be secured against pressure loss (failsafe 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 system pressure: 85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 valve pressure: min. 60 bar max. 80 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 pressure: min 60 bar max. 80 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hydraulic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the hydraulic system using the necessar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ystem so the functionality is as descri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op-bred"/>
          <p:cNvPicPr/>
          <p:nvPr/>
        </p:nvPicPr>
        <p:blipFill>
          <a:blip r:embed="rId1"/>
          <a:stretch/>
        </p:blipFill>
        <p:spPr>
          <a:xfrm>
            <a:off x="-17640" y="-11160"/>
            <a:ext cx="6856560" cy="11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Adr-Bund"/>
          <p:cNvPicPr/>
          <p:nvPr/>
        </p:nvPicPr>
        <p:blipFill>
          <a:blip r:embed="rId2"/>
          <a:stretch/>
        </p:blipFill>
        <p:spPr>
          <a:xfrm>
            <a:off x="3240" y="8920080"/>
            <a:ext cx="6854760" cy="22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717480" y="2136600"/>
            <a:ext cx="540072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op-bred"/>
          <p:cNvPicPr/>
          <p:nvPr/>
        </p:nvPicPr>
        <p:blipFill>
          <a:blip r:embed="rId1"/>
          <a:stretch/>
        </p:blipFill>
        <p:spPr>
          <a:xfrm>
            <a:off x="-17640" y="-11160"/>
            <a:ext cx="6856560" cy="11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Adr-Bund"/>
          <p:cNvPicPr/>
          <p:nvPr/>
        </p:nvPicPr>
        <p:blipFill>
          <a:blip r:embed="rId2"/>
          <a:stretch/>
        </p:blipFill>
        <p:spPr>
          <a:xfrm>
            <a:off x="3240" y="8920080"/>
            <a:ext cx="6854760" cy="22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647640" y="2411280"/>
            <a:ext cx="55627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op-bred"/>
          <p:cNvPicPr/>
          <p:nvPr/>
        </p:nvPicPr>
        <p:blipFill>
          <a:blip r:embed="rId1"/>
          <a:stretch/>
        </p:blipFill>
        <p:spPr>
          <a:xfrm>
            <a:off x="-17640" y="-11160"/>
            <a:ext cx="685656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Adr-Bund"/>
          <p:cNvPicPr/>
          <p:nvPr/>
        </p:nvPicPr>
        <p:blipFill>
          <a:blip r:embed="rId2"/>
          <a:stretch/>
        </p:blipFill>
        <p:spPr>
          <a:xfrm>
            <a:off x="3240" y="8920080"/>
            <a:ext cx="6854760" cy="2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660240" y="2411280"/>
            <a:ext cx="5537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9:55:32Z</dcterms:created>
  <dc:creator>Klaus B</dc:creator>
  <dc:description/>
  <dc:language>en-US</dc:language>
  <cp:lastModifiedBy>John Mogensen</cp:lastModifiedBy>
  <dcterms:modified xsi:type="dcterms:W3CDTF">2016-05-24T09:00:10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o for gennemgang">
    <vt:lpwstr/>
  </property>
  <property fmtid="{D5CDD505-2E9C-101B-9397-08002B2CF9AE}" pid="3" name="Fag">
    <vt:lpwstr/>
  </property>
  <property fmtid="{D5CDD505-2E9C-101B-9397-08002B2CF9AE}" pid="4" name="Gennemgang til">
    <vt:lpwstr/>
  </property>
  <property fmtid="{D5CDD505-2E9C-101B-9397-08002B2CF9AE}" pid="5" name="Lektion 1">
    <vt:lpwstr>Angiv valg #1</vt:lpwstr>
  </property>
  <property fmtid="{D5CDD505-2E9C-101B-9397-08002B2CF9AE}" pid="6" name="Owner">
    <vt:lpwstr/>
  </property>
  <property fmtid="{D5CDD505-2E9C-101B-9397-08002B2CF9AE}" pid="7" name="SPSDescription">
    <vt:lpwstr/>
  </property>
  <property fmtid="{D5CDD505-2E9C-101B-9397-08002B2CF9AE}" pid="8" name="Status">
    <vt:lpwstr>Endelig</vt:lpwstr>
  </property>
</Properties>
</file>